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7F7-02EE-487B-ACBE-3096FE43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CAD-206A-42B7-A1A7-E005366E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DE7-D7FA-4AD6-8722-2E15816A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716-5589-4EEA-86B3-E2E929C8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8ED2-6573-40DD-BA6F-FA2EB7BF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63A7-A6C5-49EB-8C70-A0126BD4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4BC9-DD24-4AC5-8F06-7D079076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AC4F-3FE9-4B07-A6AA-7F4B1FC1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41C2-E057-4407-816B-8F14BB77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A39F-F91C-45DE-A250-3144257E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BD2D-7ECD-483A-9D5D-2ED57D0F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BA0-A87C-4593-863D-D273B9EF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390A-C13E-4B16-B31C-36CBBBE9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9733-E903-46E3-B125-1E908167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AC9D-44FE-48DC-BA13-586B99F7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A956-337E-4952-9DFC-6FC90BEF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7640-210C-4AAD-9EB5-98167316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535-C0EB-433A-A93A-3DD2D4CB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847-CBEE-4730-8A7C-224B8486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84C-C542-4773-88A7-4A4F5E45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A9E-8E10-41DE-AAB6-3C78C7FD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8A6-5CF9-4C79-8412-EF837976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EAA-D5C6-4075-B50C-2C9F4372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ACD-0AA8-48D4-9CFE-D09C26DD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74E4-99EB-400B-BA49-6D6BB6601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CDAF-C048-48E2-8601-FA547D2B6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6840" y="17524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17080" y="182880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LD H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03600" y="175248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53680" y="175248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107000" y="314316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stabbed to death in the Sen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use, Rome, on 15 March 44 BC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903320" y="316872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ulius Caes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107000" y="2895480"/>
            <a:ext cx="759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war was fought over “the Union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 emancipation of slav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89280" y="3168720"/>
            <a:ext cx="39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erican Civil W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724320" y="2514600"/>
            <a:ext cx="721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would you find the phrase, “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eople, by the people, and for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ople?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96840" y="3168720"/>
            <a:ext cx="46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ettysburg Add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562040" y="28195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raditionally given credit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wing the first American fla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900800" y="316872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tsy Ro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925640" y="3168720"/>
            <a:ext cx="666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attle of Normandy took p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what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863360" y="316872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ld War 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092240" y="2819520"/>
            <a:ext cx="68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was the first president of the USA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916280" y="3168720"/>
            <a:ext cx="49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the Bay of Pig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95760" y="31687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b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913760" y="3168720"/>
            <a:ext cx="61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what animals did Hannib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oss the Alps to Ro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900440" y="316872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ph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256400" y="2971800"/>
            <a:ext cx="68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countries fought the Hund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ears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10520" y="31687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gland and F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910880" y="3168720"/>
            <a:ext cx="64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killed 100,000 of London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,000 population in 166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8000" y="3168720"/>
            <a:ext cx="33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reat Plag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920600" y="3168720"/>
            <a:ext cx="667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which war did the Charge of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ght Brigade take pla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86760" y="3168720"/>
            <a:ext cx="34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rimean W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883160" y="316872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rge Washing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917720" y="3168720"/>
            <a:ext cx="52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did Rome fight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nic Wa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99720" y="316872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rth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20960" y="3168720"/>
            <a:ext cx="58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was Napoleon exiled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1814-181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5400" y="31687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b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918440" y="3168720"/>
            <a:ext cx="55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id Pope Paul III do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nry VIII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908360" y="3168720"/>
            <a:ext cx="31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communic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12320" y="3168720"/>
            <a:ext cx="65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what battle did Joan of Arc le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rench Army to a victo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906920" y="3168720"/>
            <a:ext cx="32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ege of Orle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921320" y="3168720"/>
            <a:ext cx="590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which battle was Xerxes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der of the Persian arm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910160" y="3168720"/>
            <a:ext cx="43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ttle of Thermopyl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787680" y="2666880"/>
            <a:ext cx="793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was queen of England for only nine days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926000" y="3168720"/>
            <a:ext cx="64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major event lead to the tur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the French Revolu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923120" y="3168720"/>
            <a:ext cx="64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eheading of King Louis XV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918800" y="3168720"/>
            <a:ext cx="53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temple stands o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ropolis in Athe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905480" y="3168720"/>
            <a:ext cx="28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arthen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574200" y="2590920"/>
            <a:ext cx="76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first Christian emper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Rome and founder of Constantinop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912680" y="316872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tantine the Gr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516600" y="2819520"/>
            <a:ext cx="80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religion was founded by Pri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utama Siddhartha in the 6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entury BC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900440" y="316872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ddh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911240" y="316872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father of Cleopatra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n, Ptolemy XV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903320" y="316872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ulius Caes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1295280" y="274320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se exploration of the New World had its quincentenary in 1992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256760" y="2743200"/>
            <a:ext cx="723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 which French port were 337,13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ied troops evacuat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May and June 1940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99000" y="316872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nki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1905120" y="2743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dy  Jane Gr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12320" y="3168720"/>
            <a:ext cx="43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istopher Columb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957600" y="2971800"/>
            <a:ext cx="789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became leader of the Russian 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the October Revolution of 1917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897200" y="31687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n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Jasmin Vant</cp:lastModifiedBy>
  <dcterms:modified xsi:type="dcterms:W3CDTF">2011-04-22T01:51:57Z</dcterms:modified>
  <cp:revision>21</cp:revision>
  <dc:subject/>
  <dc:title>Jeopardy</dc:title>
</cp:coreProperties>
</file>